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C21-277B-42D7-B305-43E7C6C0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B9D8-49BC-4469-9667-4BB9B1B5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67E-1B8F-4E86-AD0C-0375EB55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59D-50F4-4A9F-9D94-3148C467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51CA-AEFE-42BA-8AC4-EE09AA59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72BE-0703-423E-B981-066A1013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DDAE-FD9C-42DE-89C0-90528DFA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4854-372B-47E8-9911-1E046B62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1FD5-ABA8-4FE0-AAFB-01FC699E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134B-5D42-4487-BF69-B40BE2CB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0757-3104-415B-97DB-92234EC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0E2-B5A9-41C0-B28D-D332354B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4700-9934-41A9-A266-DF623659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7A24-BA04-485C-8FBD-FBF28CD4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D788-B3B3-42F1-AA04-FC511ABD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FAD4-38BA-4BEC-9AB6-E41E32D3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BEBB-141E-4422-8C47-71663D45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C541-A8A0-4903-AEF3-C0E681F9E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7E26-9BF2-492D-BE88-F80F4C52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6319D-B816-43D4-B701-1A8A73BB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B6E7-934F-4160-8F63-F387CC8B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6376-FCFA-43B7-BC57-5B45CB24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B14-2499-4A23-A806-56A4047E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28BC9-5A1D-4F1A-86B9-7958839E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7D73D-2585-49B4-B5AF-9965D91D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9CA39-6CA2-473A-82E1-F843F18F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B3E9-9EE1-4825-88F9-3E6E30AC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AB945-14CC-4CF5-926A-5D83B91B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29C4-36B7-4DBF-A492-CE831D96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B6DB-E893-47DB-99B6-F76A4D65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4ADAC-1076-49DE-AA6D-ACA724DA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2BEB3-0E60-402B-A263-1C14AE83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B9F65-B506-468E-9D61-C2B7D8A6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673F-572F-4FDD-8D2E-BD377E69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EFE35-D6F7-42AC-9FD2-F160228E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6D88F-3558-4467-9FD5-BD92400E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F2049-F435-4904-BD35-BF7F764C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ED2D-42D6-468A-AB73-182E73D8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ED428-4405-44DD-A43C-F7DC6B50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21069-AB04-45CA-A810-F8AD3A1A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4A80B-2743-43F1-8922-E409C630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4339-B35F-427D-8D94-CD17375B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53F62-78E3-4034-BADC-FED9B8F3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9D92F-A390-48C1-B006-EA7C88D9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39E-4564-48A5-B647-B509D90A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7F4DD-E151-4D77-973C-746D4275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ADC68-7D4F-4F95-A01F-013D008F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89F9D-56C7-40FB-B0B1-F74292FF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51678-5284-47A5-B02B-AFFA84AB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55D3-EFD6-4BEB-9776-BAEC9306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EEBF1-864A-46EA-ABBB-E7DDC8B0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D3022-1832-4C91-B390-2495A93A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700AA-F18B-4992-8FDB-67193B3C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74147-9189-4F18-B4D0-3F8CC55B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3A405-C787-45BE-9D16-910F962E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C969-0690-40E8-B653-810DD4CA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20E83-8BE7-4E41-AFE3-E1B3BFA7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64473-0FDB-4BFD-AAF3-9BC537DA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29B8A-DEE2-43CE-8CDB-CC502DD6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646AC-72A9-4D00-B7FF-FA5FEC06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88C0F-7263-4ACC-B9BF-88229462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22375-B439-4331-ABAA-C55E8335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16117-2827-4819-9EBD-F3716D37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22823-9E87-41BE-B2C5-60032729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B9C9A-4DAF-4DF0-9FB7-0878EB85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C2E29-289D-4853-A4E3-1F331D35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60E-E795-4487-9427-6B08D025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07405-D3FC-49D3-B4BC-A84E696E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BCEDE-364F-4515-8676-F128D70B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BFADA-E544-4A25-B67B-579D2B1B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EA035-8B2F-4399-8101-F0FB2C0E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E2D3F-69A1-4E00-B2F6-451E570F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23334-E563-49B3-9C3B-6B60666D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7CA69-1351-4707-8C33-B51BBA21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E2C44-8E04-4039-93B3-F424ED09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29D82-5FE8-4441-8FD8-9AC9D4F8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ACD6E-7796-4A69-A0AF-14121F91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233-A29D-4EC0-95FE-2A5E89F5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79FE0-8C13-4DAA-9DF0-B42ED16F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19265-6E53-4284-9742-FAE539A5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19621-4464-4196-974C-CAF973DD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85392-B14B-4CEB-A490-D4735BF3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D07E4-8180-41C6-8862-1E73CBF5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F46-0894-4C88-BD3B-0AC38165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2E93-6948-4FF0-A3A6-1C76A14ACB9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7F25-CB33-4229-9B64-E9132029EFD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7148-6B74-4045-BC17-1217CAAC29E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3FD4-9A12-42CF-9F1E-D1F452A24AC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61FA-F666-4985-A307-6F8FAC741E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40A3-C567-4458-A0FF-F69003B65CB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3A31-EC00-4638-8876-F841457568D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5943600"/>
            <a:ext cx="7407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88631"/>
                </a:solidFill>
                <a:latin typeface="Antique Olive CompactPS"/>
              </a:rPr>
              <a:t>Welcome to the Futur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Our Future.wmv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7467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itle 1"/>
          <p:cNvSpPr/>
          <p:nvPr/>
        </p:nvSpPr>
        <p:spPr>
          <a:xfrm>
            <a:off x="990720" y="304920"/>
            <a:ext cx="794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9933ff"/>
                </a:solidFill>
                <a:latin typeface="Antique Olive CompactPS"/>
              </a:rPr>
              <a:t>How often should LT’s be changed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itle 1"/>
          <p:cNvSpPr/>
          <p:nvPr/>
        </p:nvSpPr>
        <p:spPr>
          <a:xfrm>
            <a:off x="990720" y="2133720"/>
            <a:ext cx="794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33ff"/>
                </a:solidFill>
                <a:latin typeface="Antique Olive CompactPS"/>
              </a:rPr>
              <a:t>How should LT’s be writte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4"/>
          <p:cNvSpPr/>
          <p:nvPr/>
        </p:nvSpPr>
        <p:spPr>
          <a:xfrm>
            <a:off x="1371600" y="1447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Gill Sans MT"/>
              </a:rPr>
              <a:t>The Majority… EVERYDAY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"/>
          <p:cNvSpPr/>
          <p:nvPr/>
        </p:nvSpPr>
        <p:spPr>
          <a:xfrm>
            <a:off x="1371600" y="3200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Gill Sans MT"/>
              </a:rPr>
              <a:t>In Student Friendly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itle 1"/>
          <p:cNvSpPr/>
          <p:nvPr/>
        </p:nvSpPr>
        <p:spPr>
          <a:xfrm>
            <a:off x="990720" y="4114800"/>
            <a:ext cx="7943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33ff"/>
                </a:solidFill>
                <a:latin typeface="Antique Olive CompactPS"/>
              </a:rPr>
              <a:t>All LT’s should be shared with students, referred to during the lesson, and focused on the learning that is to take place.. not the activity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C:\Documents and Settings\mmiddleton\Local Settings\Temporary Internet Files\Content.IE5\49EFCD2J\MC900151699[1].wmf"/>
          <p:cNvPicPr/>
          <p:nvPr/>
        </p:nvPicPr>
        <p:blipFill>
          <a:blip r:embed="rId1"/>
          <a:stretch/>
        </p:blipFill>
        <p:spPr>
          <a:xfrm>
            <a:off x="0" y="2895480"/>
            <a:ext cx="1063800" cy="9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50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7c80"/>
                </a:solidFill>
                <a:latin typeface="Antique Olive CompactPS"/>
              </a:rPr>
              <a:t>Stiggins classifies LT’s into 4 Type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399ff"/>
                </a:solidFill>
                <a:uFillTx/>
                <a:latin typeface="Gill Sans MT"/>
              </a:rPr>
              <a:t>Knowledge:</a:t>
            </a:r>
            <a:r>
              <a:rPr b="0" lang="en-US" sz="3000" spc="-1" strike="noStrike">
                <a:solidFill>
                  <a:srgbClr val="3399ff"/>
                </a:solidFill>
                <a:latin typeface="Gill Sans MT"/>
              </a:rPr>
              <a:t>  Knowledge/facts/concepts to be learned outright; some retrieved using reference material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33cc33"/>
                </a:solidFill>
                <a:uFillTx/>
                <a:latin typeface="Gill Sans MT"/>
              </a:rPr>
              <a:t>Reasoning:</a:t>
            </a:r>
            <a:r>
              <a:rPr b="0" lang="en-US" sz="3000" spc="-1" strike="noStrike">
                <a:solidFill>
                  <a:srgbClr val="33cc33"/>
                </a:solidFill>
                <a:latin typeface="Gill Sans MT"/>
              </a:rPr>
              <a:t> Using knowledge to solve a problem, make a decision, plan, et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9933ff"/>
                </a:solidFill>
                <a:uFillTx/>
                <a:latin typeface="Gill Sans MT"/>
              </a:rPr>
              <a:t>Skills: </a:t>
            </a:r>
            <a:r>
              <a:rPr b="1" lang="en-US" sz="3000" spc="-1" strike="noStrike">
                <a:solidFill>
                  <a:srgbClr val="9933ff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9933ff"/>
                </a:solidFill>
                <a:latin typeface="Gill Sans MT"/>
              </a:rPr>
              <a:t>Demonstrations where the doing is what is important.  Using knowledge and reasoning to perform skillfully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66ff"/>
                </a:solidFill>
                <a:uFillTx/>
                <a:latin typeface="Gill Sans MT"/>
              </a:rPr>
              <a:t>Products:</a:t>
            </a:r>
            <a:r>
              <a:rPr b="0" lang="en-US" sz="3000" spc="-1" strike="noStrike">
                <a:solidFill>
                  <a:srgbClr val="ff66ff"/>
                </a:solidFill>
                <a:latin typeface="Gill Sans MT"/>
              </a:rPr>
              <a:t> Using knowledge, reasoning and skill to produce a final produc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C:\Documents and Settings\mmiddleton\My Documents\My Pictures\Microsoft Clip Organizer\00389758.wmf"/>
          <p:cNvPicPr/>
          <p:nvPr/>
        </p:nvPicPr>
        <p:blipFill>
          <a:blip r:embed="rId1"/>
          <a:stretch/>
        </p:blipFill>
        <p:spPr>
          <a:xfrm>
            <a:off x="228600" y="457200"/>
            <a:ext cx="12938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99ff"/>
                </a:solidFill>
                <a:latin typeface="Antique Olive CompactPS"/>
              </a:rPr>
              <a:t>Let’s Practice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371240" y="1447560"/>
            <a:ext cx="7497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ork with your table to identify each target as knowledge (K), reasoning (R), skill (S) or product (P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2" descr="C:\Documents and Settings\mmiddleton\Local Settings\Temporary Internet Files\Content.IE5\8RHFE2BX\MC900198007[1].wmf"/>
          <p:cNvPicPr/>
          <p:nvPr/>
        </p:nvPicPr>
        <p:blipFill>
          <a:blip r:embed="rId1"/>
          <a:stretch/>
        </p:blipFill>
        <p:spPr>
          <a:xfrm>
            <a:off x="2743200" y="3657600"/>
            <a:ext cx="396252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3300"/>
                </a:solidFill>
                <a:latin typeface="Antique Olive CompactPS"/>
              </a:rPr>
              <a:t>Connecting the Dots between LT’s and FA’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294920" y="16761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tique Olive CompactPS"/>
              </a:rPr>
              <a:t>A lesson is not a true lesson without a target, activities to reach the target, and a way to check if students understand the target.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2" descr="C:\Documents and Settings\mmiddleton\Local Settings\Temporary Internet Files\Content.IE5\VIKRNDSX\MC900441748[1].png"/>
          <p:cNvPicPr/>
          <p:nvPr/>
        </p:nvPicPr>
        <p:blipFill>
          <a:blip r:embed="rId1"/>
          <a:stretch/>
        </p:blipFill>
        <p:spPr>
          <a:xfrm>
            <a:off x="3505320" y="46483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933ff"/>
                </a:solidFill>
                <a:latin typeface="Antique Olive CompactPS"/>
              </a:rPr>
              <a:t>Homework Follow U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read the article, “Putting Testing in Perspective.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ok at the worksheet titled, Assessment Literacy.  Individually, look at each statement and mark whether you agree or disagre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am up with a partner and discuss your answers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re did you find the evidence           for or agains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2" descr="C:\Documents and Settings\mmiddleton\Local Settings\Temporary Internet Files\Content.IE5\EWT3BYDV\MC900292084[1].wmf"/>
          <p:cNvPicPr/>
          <p:nvPr/>
        </p:nvPicPr>
        <p:blipFill>
          <a:blip r:embed="rId1"/>
          <a:stretch/>
        </p:blipFill>
        <p:spPr>
          <a:xfrm>
            <a:off x="7345440" y="4800600"/>
            <a:ext cx="17985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f3b1d"/>
                </a:solidFill>
                <a:latin typeface="Antique Olive CompactPS"/>
              </a:rPr>
              <a:t>3-Minute Pau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294920" y="17521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vides students a chance to reflect on the concepts and ideas that have just been introduced, make connections to prior knowledge or experience, and seek clarific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ease take a moment to fill out the sheet provided.  You do not have to place your name on the pape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2" descr="C:\Documents and Settings\mmiddleton\Local Settings\Temporary Internet Files\Content.IE5\45EBWPQJ\MC900157339[1].wmf"/>
          <p:cNvPicPr/>
          <p:nvPr/>
        </p:nvPicPr>
        <p:blipFill>
          <a:blip r:embed="rId1"/>
          <a:stretch/>
        </p:blipFill>
        <p:spPr>
          <a:xfrm>
            <a:off x="7010280" y="0"/>
            <a:ext cx="18162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b050"/>
                </a:solidFill>
                <a:latin typeface="Antique Olive CompactPS"/>
              </a:rPr>
              <a:t>Next Session..December 6</a:t>
            </a:r>
            <a:r>
              <a:rPr b="0" lang="en-US" sz="4300" spc="-1" strike="noStrike" baseline="30000">
                <a:solidFill>
                  <a:srgbClr val="00b050"/>
                </a:solidFill>
                <a:latin typeface="Antique Olive CompactPS"/>
              </a:rPr>
              <a:t>t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90360" y="1599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tique Olive"/>
              </a:rPr>
              <a:t>7 Strategies….Read pages 42-5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tique Olive"/>
              </a:rPr>
              <a:t>Self Assess yourself on Section 2 of CHETL.  Place a star by the characteristics you currently do well and a triangle where you need to be more intentional about the us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tique Olive"/>
              </a:rPr>
              <a:t>In a class or particular content area, use Learning Targets along with Formative Assessments.  Be ready to discuss at the next meeting.  Bring Examples too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2" descr="C:\Documents and Settings\mmiddleton\Local Settings\Temporary Internet Files\Content.IE5\PJ3F998E\MC900326288[1].wmf"/>
          <p:cNvPicPr/>
          <p:nvPr/>
        </p:nvPicPr>
        <p:blipFill>
          <a:blip r:embed="rId1"/>
          <a:stretch/>
        </p:blipFill>
        <p:spPr>
          <a:xfrm>
            <a:off x="7318440" y="838080"/>
            <a:ext cx="18255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ntique Olive CompactPS"/>
              </a:rPr>
              <a:t>WHY ARE YOU HERE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Tips for Removing Snow off your Vehicle.wmv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7816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372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Because we are going to be unlike the man </a:t>
            </a:r>
            <a:br>
              <a:rPr sz="2800"/>
            </a:b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in the video.  We are going to….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14040" y="12949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alyze the direction of education in Kentuck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ork together to meet the criter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the appropriate too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4495680" y="1676520"/>
            <a:ext cx="5410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URRICLUM (WH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K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NSTRUCTION (H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HE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SSESSMENT (HOW W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A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1447920" y="533412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ff"/>
                </a:solidFill>
                <a:latin typeface="Gill Sans MT"/>
              </a:rPr>
              <a:t>Be</a:t>
            </a:r>
            <a:r>
              <a:rPr b="0" lang="en-US" sz="5400" spc="-1" strike="noStrike">
                <a:solidFill>
                  <a:srgbClr val="ff66ff"/>
                </a:solidFill>
                <a:latin typeface="Gill Sans MT"/>
              </a:rPr>
              <a:t> </a:t>
            </a:r>
            <a:r>
              <a:rPr b="0" lang="en-US" sz="7200" spc="-1" strike="noStrike">
                <a:solidFill>
                  <a:srgbClr val="ff66ff"/>
                </a:solidFill>
                <a:latin typeface="Gill Sans MT"/>
              </a:rPr>
              <a:t>Successful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Antique Olive CompactPS"/>
              </a:rPr>
              <a:t>A Message from Our Superintendent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Content Placeholder 3" descr="SSkinner.jpg"/>
          <p:cNvPicPr/>
          <p:nvPr/>
        </p:nvPicPr>
        <p:blipFill>
          <a:blip r:embed="rId1"/>
          <a:stretch/>
        </p:blipFill>
        <p:spPr>
          <a:xfrm>
            <a:off x="7429680" y="85680"/>
            <a:ext cx="1504800" cy="20574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1295280" y="1752480"/>
            <a:ext cx="73152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Mind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ter off at your table as A, B, A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's will read "The Ideal Learning Cul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's will read "The Perils and Promises of Prais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finished reading, A and B match up and share your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1905120" y="5029200"/>
            <a:ext cx="6019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Identify each statement as fixed or growth mind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b050"/>
                </a:solidFill>
                <a:latin typeface="Gill Sans MT"/>
              </a:rPr>
              <a:t>Changing Teacher Practice Requires a Change in Teachers’ Belief System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8960" y="17521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Gill Sans MT"/>
              </a:rPr>
              <a:t>Teachers must shift from a fixed mindset to a growth minds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3b1d"/>
                </a:solidFill>
                <a:latin typeface="Gill Sans MT"/>
              </a:rPr>
              <a:t>Teachers must shift from extrinsic (carrot stick) to intrinsic (autonomy, mastery, purpose) motiv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Gill Sans MT"/>
              </a:rPr>
              <a:t>Teachers must be given the time/tools and support from all stakeholder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f3b1d"/>
                </a:solidFill>
                <a:latin typeface="Antique Olive CompactPS"/>
              </a:rPr>
              <a:t>Wrap Aroun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294920" y="9903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n index card to write down 3 things that are formative assessmen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veryone stand up, we will go around the room and each person will share one item off their car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you hear something you have written down, check it off your list.  When all three items on your list have been stated, sit dow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2" descr="C:\Documents and Settings\mmiddleton\Local Settings\Temporary Internet Files\Content.IE5\VIKRNDSX\MC900389204[1].wmf"/>
          <p:cNvPicPr/>
          <p:nvPr/>
        </p:nvPicPr>
        <p:blipFill>
          <a:blip r:embed="rId1"/>
          <a:stretch/>
        </p:blipFill>
        <p:spPr>
          <a:xfrm>
            <a:off x="7010280" y="5257800"/>
            <a:ext cx="10670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ntique Olive CompactPS"/>
              </a:rPr>
              <a:t>Think-Pair-Sha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the one thing that must be consistent with every formative assessment to make it a true formative assessmen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Content Placeholder 2"/>
          <p:cNvSpPr/>
          <p:nvPr/>
        </p:nvSpPr>
        <p:spPr>
          <a:xfrm>
            <a:off x="1219320" y="3505320"/>
            <a:ext cx="7497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ill Sans MT"/>
              </a:rPr>
              <a:t>The teacher m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Gill Sans MT"/>
              </a:rPr>
              <a:t>DO SOMETHING with the information receiv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00"/>
                </a:solidFill>
                <a:latin typeface="Antique Olive CompactPS"/>
              </a:rPr>
              <a:t>Why Learning Target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1600200" y="1447920"/>
            <a:ext cx="6400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Research indicates students who know and can articulate what they are learning out perform those who don’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C:\Documents and Settings\mmiddleton\Local Settings\Temporary Internet Files\Content.IE5\X5GQZNL9\MC900383550[1].wmf"/>
          <p:cNvPicPr/>
          <p:nvPr/>
        </p:nvPicPr>
        <p:blipFill>
          <a:blip r:embed="rId1"/>
          <a:stretch/>
        </p:blipFill>
        <p:spPr>
          <a:xfrm>
            <a:off x="0" y="2743200"/>
            <a:ext cx="990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9933ff"/>
                </a:solidFill>
                <a:latin typeface="Antique Olive CompactPS"/>
              </a:rPr>
              <a:t>What are </a:t>
            </a:r>
            <a:br>
              <a:rPr sz="3900"/>
            </a:br>
            <a:r>
              <a:rPr b="0" lang="en-US" sz="3900" spc="-1" strike="noStrike">
                <a:solidFill>
                  <a:srgbClr val="9933ff"/>
                </a:solidFill>
                <a:latin typeface="Antique Olive CompactPS"/>
              </a:rPr>
              <a:t>Learning Target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1371600" y="167652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Gill Sans MT"/>
              </a:rPr>
              <a:t>Clearly defined, manageable, measurable teaching chunks of what we want our students to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C:\Documents and Settings\mmiddleton\Local Settings\Temporary Internet Files\Content.IE5\UPLEBA1K\MC900030041[1].wmf"/>
          <p:cNvPicPr/>
          <p:nvPr/>
        </p:nvPicPr>
        <p:blipFill>
          <a:blip r:embed="rId1"/>
          <a:stretch/>
        </p:blipFill>
        <p:spPr>
          <a:xfrm>
            <a:off x="152280" y="2514600"/>
            <a:ext cx="1212840" cy="1579680"/>
          </a:xfrm>
          <a:prstGeom prst="rect">
            <a:avLst/>
          </a:prstGeom>
          <a:ln w="0">
            <a:noFill/>
          </a:ln>
        </p:spPr>
      </p:pic>
      <p:sp>
        <p:nvSpPr>
          <p:cNvPr id="344" name="Title 1"/>
          <p:cNvSpPr/>
          <p:nvPr/>
        </p:nvSpPr>
        <p:spPr>
          <a:xfrm>
            <a:off x="990720" y="4572000"/>
            <a:ext cx="794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33ff"/>
                </a:solidFill>
                <a:latin typeface="Antique Olive CompactPS"/>
              </a:rPr>
              <a:t>When Should LT’s be poste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1447920" y="57150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Gill Sans MT"/>
              </a:rPr>
              <a:t>EVERY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52:00Z</dcterms:created>
  <dc:creator>mmiddleton</dc:creator>
  <dc:description/>
  <dc:language>en-US</dc:language>
  <cp:lastModifiedBy>teacher</cp:lastModifiedBy>
  <dcterms:modified xsi:type="dcterms:W3CDTF">2010-11-01T20:42:45Z</dcterms:modified>
  <cp:revision>74</cp:revision>
  <dc:subject/>
  <dc:title>Slide 1</dc:title>
</cp:coreProperties>
</file>